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1DEE0-2409-45AF-B073-8213D88A0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88E2D-8CBE-4CE1-82F1-0C842B0BF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1DBCF-7C5B-4808-9921-95F51D9EB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CBB08-5C0A-47C3-AABE-8916380A9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536D0-3520-49FA-AFE2-9540254E6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193D4-57CA-459F-87B6-C687C2870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B1F6A-79D8-4F9C-9B46-ECF3C0A99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6670B-A331-4061-852D-6BDFEEC32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E6EA7-DF1A-42A5-A130-C576BF517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F9E6B-6C5B-4430-8069-3CA72BA27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77065-F10B-45FF-9638-7253A07B3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7759E-3434-4AB5-A5C5-7597FD39B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2CEB9-1F95-4630-B784-6D1204421B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LS 2-10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RANSMISSION SHIFT CONTR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800520" y="4952880"/>
            <a:ext cx="15429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.  REVE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.  NEUT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3.  DR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4.  3RD OR 4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.  DO NOT SH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6.  1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7.  2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ls2-10" descr=""/>
          <p:cNvPicPr/>
          <p:nvPr/>
        </p:nvPicPr>
        <p:blipFill>
          <a:blip r:embed="rId1"/>
          <a:srcRect l="13367" t="18823" r="15608" b="28774"/>
          <a:stretch/>
        </p:blipFill>
        <p:spPr>
          <a:xfrm>
            <a:off x="3390840" y="1371600"/>
            <a:ext cx="236232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685800" y="4572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LS 3-1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GINE START-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219320" y="4876920"/>
            <a:ext cx="30477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.  PARKING BRA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.  TRANSMISSION RANGE SEL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.  ETHER START BUT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4.  ENGINE START SW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.  ACCELERATOR PED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6.  LOW AIR ALA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7.  TACHO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572000" y="4876920"/>
            <a:ext cx="28954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8.  OIL PRESSURE GAU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9.  WATER TEMPERATURE GAU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0.  FUEL GAU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1.  BATTERY GAUGE (12V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2.  BATTERY GAUGE (24V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3.  LOW AIR IND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4.  AIR PRESSURE GAU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ls3-1" descr=""/>
          <p:cNvPicPr/>
          <p:nvPr/>
        </p:nvPicPr>
        <p:blipFill>
          <a:blip r:embed="rId1"/>
          <a:srcRect l="-782" t="18580" r="9374" b="24622"/>
          <a:stretch/>
        </p:blipFill>
        <p:spPr>
          <a:xfrm>
            <a:off x="2171880" y="1295280"/>
            <a:ext cx="4800600" cy="35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4572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LS 3-2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GINE START-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219320" y="4876920"/>
            <a:ext cx="30477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.  PARKING BRA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.  TRANSMISSION RANGE SEL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.  ETHER START BUT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4.  ENGINE START SW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.  ACCELERATOR PED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6.  LOW AIR ALA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7.  TACHO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4876920"/>
            <a:ext cx="28954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8.  OIL PRESSURE GAU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9.  WATER TEMPERATURE GAU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0.  FUEL GAU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1.  BATTERY GAUGE (12V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2.  BATTERY GAUGE (24V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3.  LOW AIR IND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4.  AIR PRESSURE GAU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pls3-2" descr=""/>
          <p:cNvPicPr/>
          <p:nvPr/>
        </p:nvPicPr>
        <p:blipFill>
          <a:blip r:embed="rId1"/>
          <a:srcRect l="1360" t="19791" r="11086" b="24622"/>
          <a:stretch/>
        </p:blipFill>
        <p:spPr>
          <a:xfrm>
            <a:off x="2171880" y="1295280"/>
            <a:ext cx="480060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4572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LS 3-3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GINE SHUTDOW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048120" y="5197320"/>
            <a:ext cx="3047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.  TRANSMISSION RANGE SELECTOR 2.  PARKING BRAKE CONT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3. TACHO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4.  IGNITION SW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pls3-3" descr=""/>
          <p:cNvPicPr/>
          <p:nvPr/>
        </p:nvPicPr>
        <p:blipFill>
          <a:blip r:embed="rId1"/>
          <a:srcRect l="1527" t="22126" r="2971" b="18323"/>
          <a:stretch/>
        </p:blipFill>
        <p:spPr>
          <a:xfrm>
            <a:off x="2095560" y="1371600"/>
            <a:ext cx="495288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85800" y="4572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LS 4-1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LS ENGINE BRAKE OP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pls4-1" descr=""/>
          <p:cNvPicPr/>
          <p:nvPr/>
        </p:nvPicPr>
        <p:blipFill>
          <a:blip r:embed="rId1"/>
          <a:srcRect l="3692" t="22809" r="7717" b="2051"/>
          <a:stretch/>
        </p:blipFill>
        <p:spPr>
          <a:xfrm>
            <a:off x="2895480" y="1523880"/>
            <a:ext cx="335304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85800" y="4572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LS 4-2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OW TO OPERATE ENGINE BRAK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429000" y="5197320"/>
            <a:ext cx="2286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.  ENGINE BRAKE SW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.  INDICATOR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3.  TACHO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pls4-2" descr=""/>
          <p:cNvPicPr/>
          <p:nvPr/>
        </p:nvPicPr>
        <p:blipFill>
          <a:blip r:embed="rId1"/>
          <a:srcRect l="1860" t="22301" r="1860" b="16466"/>
          <a:stretch/>
        </p:blipFill>
        <p:spPr>
          <a:xfrm>
            <a:off x="1981080" y="1600200"/>
            <a:ext cx="518184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685800" y="4572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LS 4-3</a:t>
            </a:r>
            <a:br>
              <a:rPr sz="1600"/>
            </a:br>
            <a:br>
              <a:rPr sz="1600"/>
            </a:b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ENGINE BRAKE OPERATION GUIDE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1758960" y="2854440"/>
            <a:ext cx="181080" cy="2791800"/>
            <a:chOff x="1758960" y="2854440"/>
            <a:chExt cx="181080" cy="2791800"/>
          </a:xfrm>
        </p:grpSpPr>
        <p:sp>
          <p:nvSpPr>
            <p:cNvPr id="115" name=""/>
            <p:cNvSpPr/>
            <p:nvPr/>
          </p:nvSpPr>
          <p:spPr>
            <a:xfrm>
              <a:off x="1758960" y="2854440"/>
              <a:ext cx="18108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58960" y="3282840"/>
              <a:ext cx="181080" cy="30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58960" y="3676320"/>
              <a:ext cx="18108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758960" y="4093920"/>
              <a:ext cx="18108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758960" y="4500360"/>
              <a:ext cx="18108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758960" y="4917960"/>
              <a:ext cx="181080" cy="30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758960" y="5344920"/>
              <a:ext cx="18108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" name=""/>
          <p:cNvSpPr/>
          <p:nvPr/>
        </p:nvSpPr>
        <p:spPr>
          <a:xfrm>
            <a:off x="2273400" y="1600200"/>
            <a:ext cx="4597200" cy="31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  Do not use engine brake with cold engin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  Select proper transmission gea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  Be aware of control switch posi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  Use correct position for road surface condit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  Get acquainted with "braking feel"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  Use correct gear on downgrad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  Always shut off control switch after us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685800" y="2286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LS 5-1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TIS AND DRIVELINE LOCKUP 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238560" y="4952880"/>
            <a:ext cx="26668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.  ROTARY SELECTOR SW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.  OVERSPEED IND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3.  LOW AIR IND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4.  START SW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.  DISABLE SW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pls5-1" descr=""/>
          <p:cNvPicPr/>
          <p:nvPr/>
        </p:nvPicPr>
        <p:blipFill>
          <a:blip r:embed="rId1"/>
          <a:srcRect l="1813" t="22423" r="3627" b="19632"/>
          <a:stretch/>
        </p:blipFill>
        <p:spPr>
          <a:xfrm>
            <a:off x="2629080" y="1219320"/>
            <a:ext cx="38862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ls5-2" descr=""/>
          <p:cNvPicPr/>
          <p:nvPr/>
        </p:nvPicPr>
        <p:blipFill>
          <a:blip r:embed="rId1"/>
          <a:srcRect l="5140" t="14027" r="3268" b="978"/>
          <a:stretch/>
        </p:blipFill>
        <p:spPr>
          <a:xfrm>
            <a:off x="2743200" y="762120"/>
            <a:ext cx="3733920" cy="59436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LS 5-2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RIVELINE LOCKUP M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LS 5-3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TIS OP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pls5-3" descr=""/>
          <p:cNvPicPr/>
          <p:nvPr/>
        </p:nvPicPr>
        <p:blipFill>
          <a:blip r:embed="rId1"/>
          <a:srcRect l="22348" t="24367" r="19254" b="41459"/>
          <a:stretch/>
        </p:blipFill>
        <p:spPr>
          <a:xfrm>
            <a:off x="762120" y="1143000"/>
            <a:ext cx="4343400" cy="2133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0" name=""/>
          <p:cNvGraphicFramePr/>
          <p:nvPr/>
        </p:nvGraphicFramePr>
        <p:xfrm>
          <a:off x="687240" y="3505320"/>
          <a:ext cx="7769520" cy="22827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7240" y="3505320"/>
                    <a:ext cx="7769520" cy="22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" name=""/>
          <p:cNvSpPr/>
          <p:nvPr/>
        </p:nvSpPr>
        <p:spPr>
          <a:xfrm>
            <a:off x="5181480" y="1600200"/>
            <a:ext cx="31244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.  ON/OFF SW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.  ROTARY SELECTOR SW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.  START SW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4.  LED LIGH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.  AMBER OVERSPE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6.  RED LOW AIR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7.  TRANSMISSION RANGE SEL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685800" y="4572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LS 6-1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YDRAULIC MODE SE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970360" y="4800600"/>
            <a:ext cx="3205080" cy="14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LHS MOD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 = OFF - NO HYDRAUL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 = AUTO M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 = MANUAL HOOK A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3 = MANUAL MAIN FR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4 = MANUAL TRANS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 = CRANE OR SELF RECOVERY WIN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ls2-12" descr=""/>
          <p:cNvPicPr/>
          <p:nvPr/>
        </p:nvPicPr>
        <p:blipFill>
          <a:blip r:embed="rId1"/>
          <a:srcRect l="10866" t="22059" r="55039" b="34634"/>
          <a:stretch/>
        </p:blipFill>
        <p:spPr>
          <a:xfrm>
            <a:off x="3543480" y="1676520"/>
            <a:ext cx="205740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LS 2-11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E/ICE-R  TRANSFER CASE - LH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119400" y="5181480"/>
            <a:ext cx="290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.  STE/ICE-R RECEPTA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.  STE/ICE-R ZERO OFFSET SW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3.  TRANSFER CASE SHIFT LE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4.  LHS LOAD/UNLOAD JOYSTI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ls2-11" descr=""/>
          <p:cNvPicPr/>
          <p:nvPr/>
        </p:nvPicPr>
        <p:blipFill>
          <a:blip r:embed="rId1"/>
          <a:srcRect l="1504" t="0" r="2440" b="1248"/>
          <a:stretch/>
        </p:blipFill>
        <p:spPr>
          <a:xfrm>
            <a:off x="2133720" y="1295280"/>
            <a:ext cx="487656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685800" y="4572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LS 6-2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HS WARNING LIGH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pls6-2" descr=""/>
          <p:cNvPicPr/>
          <p:nvPr/>
        </p:nvPicPr>
        <p:blipFill>
          <a:blip r:embed="rId1"/>
          <a:srcRect l="2295" t="23913" r="2295" b="6525"/>
          <a:stretch/>
        </p:blipFill>
        <p:spPr>
          <a:xfrm>
            <a:off x="1600200" y="1676520"/>
            <a:ext cx="5943600" cy="304776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3238560" y="4952880"/>
            <a:ext cx="2666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.  LHS NO TRANS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.  LHS OVERLOAD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3.  L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4.  FLATRA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4572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LS 6-3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HS JOYSTI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pls6-3" descr=""/>
          <p:cNvPicPr/>
          <p:nvPr/>
        </p:nvPicPr>
        <p:blipFill>
          <a:blip r:embed="rId1"/>
          <a:stretch/>
        </p:blipFill>
        <p:spPr>
          <a:xfrm>
            <a:off x="1638360" y="2093760"/>
            <a:ext cx="5869080" cy="267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685800" y="4572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LS 6-4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IGNMENT WITH FLATR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pls6-4" descr=""/>
          <p:cNvPicPr/>
          <p:nvPr/>
        </p:nvPicPr>
        <p:blipFill>
          <a:blip r:embed="rId1">
            <a:lum contrast="42000"/>
          </a:blip>
          <a:srcRect l="3764" t="6545" r="1664" b="11217"/>
          <a:stretch/>
        </p:blipFill>
        <p:spPr>
          <a:xfrm>
            <a:off x="1143000" y="1752480"/>
            <a:ext cx="685800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685800" y="4572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LS 6-5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OOK POS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pls6-5" descr=""/>
          <p:cNvPicPr/>
          <p:nvPr/>
        </p:nvPicPr>
        <p:blipFill>
          <a:blip r:embed="rId1"/>
          <a:srcRect l="1915" t="17281" r="1915" b="883"/>
          <a:stretch/>
        </p:blipFill>
        <p:spPr>
          <a:xfrm>
            <a:off x="1905120" y="1447920"/>
            <a:ext cx="53337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685800" y="4572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LS 7-1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RUCK AND TRAILER POSITION FOR LOADING TRAI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pls7-1" descr=""/>
          <p:cNvPicPr/>
          <p:nvPr/>
        </p:nvPicPr>
        <p:blipFill>
          <a:blip r:embed="rId1"/>
          <a:srcRect l="2827" t="19528" r="1680" b="2765"/>
          <a:stretch/>
        </p:blipFill>
        <p:spPr>
          <a:xfrm>
            <a:off x="1409760" y="1600200"/>
            <a:ext cx="63244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LS 7-2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OADING M1076 TRAI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pls7-2" descr=""/>
          <p:cNvPicPr/>
          <p:nvPr/>
        </p:nvPicPr>
        <p:blipFill>
          <a:blip r:embed="rId1"/>
          <a:srcRect l="0" t="33362" r="0" b="24064"/>
          <a:stretch/>
        </p:blipFill>
        <p:spPr>
          <a:xfrm>
            <a:off x="1652760" y="1905120"/>
            <a:ext cx="5838480" cy="175248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2743200" y="3643200"/>
            <a:ext cx="48006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NOTES: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FLATRACK ST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LIGN TRUCK AND TRAI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SE PROPER SEQUENCE OF LH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OSITION FLATRACK BACK TO REAR STOP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O NOT PUSH FLATRACK WITH HOOK A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LS 7-3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LATRACK (FR) LOCKING SYST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pls7-3" descr=""/>
          <p:cNvPicPr/>
          <p:nvPr/>
        </p:nvPicPr>
        <p:blipFill>
          <a:blip r:embed="rId1"/>
          <a:srcRect l="6815" t="14521" r="4453" b="0"/>
          <a:stretch/>
        </p:blipFill>
        <p:spPr>
          <a:xfrm>
            <a:off x="1752480" y="1295280"/>
            <a:ext cx="5791320" cy="514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LS 2-12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YDRAULIC MODE SE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970360" y="4800600"/>
            <a:ext cx="3205080" cy="14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LHS MOD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 = OFF - NO HYDRAUL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 = AUTO M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 = MANUAL HOOK A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3 = MANUAL MAIN FR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4 = MANUAL TRANS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 = CRANE OR SELF RECOVERY WIN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ls2-12" descr=""/>
          <p:cNvPicPr/>
          <p:nvPr/>
        </p:nvPicPr>
        <p:blipFill>
          <a:blip r:embed="rId1"/>
          <a:srcRect l="0" t="22059" r="0" b="31842"/>
          <a:stretch/>
        </p:blipFill>
        <p:spPr>
          <a:xfrm>
            <a:off x="1554120" y="1676520"/>
            <a:ext cx="603396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933640" y="4800600"/>
            <a:ext cx="32781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.  ENGINE EMERGENCY STOP SW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.  SRW/CRANE SW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3.  WINCH PAY IN OR OUT SW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4.  GAS PARTICULATE FILTER SW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.  CHEMICAL ALARM SW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6.  TRANSFER CASE LOCKUP IND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7.  TRANSFER CASE LOCKUP SW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955880" y="914400"/>
            <a:ext cx="5232240" cy="3888000"/>
            <a:chOff x="1955880" y="914400"/>
            <a:chExt cx="5232240" cy="3888000"/>
          </a:xfrm>
        </p:grpSpPr>
        <p:pic>
          <p:nvPicPr>
            <p:cNvPr id="52" name="pls2-13" descr=""/>
            <p:cNvPicPr/>
            <p:nvPr/>
          </p:nvPicPr>
          <p:blipFill>
            <a:blip r:embed="rId1"/>
            <a:stretch/>
          </p:blipFill>
          <p:spPr>
            <a:xfrm>
              <a:off x="1955880" y="914400"/>
              <a:ext cx="5232240" cy="38815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3" name=""/>
            <p:cNvGrpSpPr/>
            <p:nvPr/>
          </p:nvGrpSpPr>
          <p:grpSpPr>
            <a:xfrm>
              <a:off x="5113440" y="1828800"/>
              <a:ext cx="252360" cy="246240"/>
              <a:chOff x="5113440" y="1828800"/>
              <a:chExt cx="252360" cy="246240"/>
            </a:xfrm>
          </p:grpSpPr>
          <p:sp>
            <p:nvSpPr>
              <p:cNvPr id="54" name=""/>
              <p:cNvSpPr/>
              <p:nvPr/>
            </p:nvSpPr>
            <p:spPr>
              <a:xfrm>
                <a:off x="5113440" y="1828800"/>
                <a:ext cx="252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Black"/>
                  </a:rPr>
                  <a:t>7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5124600" y="1836720"/>
                <a:ext cx="228600" cy="2286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" name=""/>
            <p:cNvGrpSpPr/>
            <p:nvPr/>
          </p:nvGrpSpPr>
          <p:grpSpPr>
            <a:xfrm>
              <a:off x="2217600" y="4098960"/>
              <a:ext cx="252360" cy="246240"/>
              <a:chOff x="2217600" y="4098960"/>
              <a:chExt cx="252360" cy="246240"/>
            </a:xfrm>
          </p:grpSpPr>
          <p:sp>
            <p:nvSpPr>
              <p:cNvPr id="57" name=""/>
              <p:cNvSpPr/>
              <p:nvPr/>
            </p:nvSpPr>
            <p:spPr>
              <a:xfrm>
                <a:off x="2217600" y="4098960"/>
                <a:ext cx="252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Black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28760" y="4106880"/>
                <a:ext cx="228600" cy="2286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" name=""/>
            <p:cNvSpPr/>
            <p:nvPr/>
          </p:nvSpPr>
          <p:spPr>
            <a:xfrm flipV="1">
              <a:off x="2362320" y="3733920"/>
              <a:ext cx="75960" cy="38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" name=""/>
            <p:cNvGrpSpPr/>
            <p:nvPr/>
          </p:nvGrpSpPr>
          <p:grpSpPr>
            <a:xfrm>
              <a:off x="2674800" y="4251600"/>
              <a:ext cx="252360" cy="246240"/>
              <a:chOff x="2674800" y="4251600"/>
              <a:chExt cx="252360" cy="246240"/>
            </a:xfrm>
          </p:grpSpPr>
          <p:sp>
            <p:nvSpPr>
              <p:cNvPr id="61" name=""/>
              <p:cNvSpPr/>
              <p:nvPr/>
            </p:nvSpPr>
            <p:spPr>
              <a:xfrm>
                <a:off x="2674800" y="4251600"/>
                <a:ext cx="252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Black"/>
                  </a:rPr>
                  <a:t>2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2685960" y="4259520"/>
                <a:ext cx="228600" cy="2286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" name=""/>
            <p:cNvSpPr/>
            <p:nvPr/>
          </p:nvSpPr>
          <p:spPr>
            <a:xfrm flipV="1">
              <a:off x="2819520" y="3885840"/>
              <a:ext cx="152280" cy="38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4" name=""/>
            <p:cNvGrpSpPr/>
            <p:nvPr/>
          </p:nvGrpSpPr>
          <p:grpSpPr>
            <a:xfrm>
              <a:off x="3092400" y="4403880"/>
              <a:ext cx="252360" cy="246240"/>
              <a:chOff x="3092400" y="4403880"/>
              <a:chExt cx="252360" cy="246240"/>
            </a:xfrm>
          </p:grpSpPr>
          <p:sp>
            <p:nvSpPr>
              <p:cNvPr id="65" name=""/>
              <p:cNvSpPr/>
              <p:nvPr/>
            </p:nvSpPr>
            <p:spPr>
              <a:xfrm>
                <a:off x="3092400" y="4403880"/>
                <a:ext cx="252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Black"/>
                  </a:rPr>
                  <a:t>3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3103560" y="4411800"/>
                <a:ext cx="228600" cy="2286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" name=""/>
            <p:cNvSpPr/>
            <p:nvPr/>
          </p:nvSpPr>
          <p:spPr>
            <a:xfrm flipV="1">
              <a:off x="3200400" y="4038840"/>
              <a:ext cx="152280" cy="38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3513240" y="4480200"/>
              <a:ext cx="252360" cy="246240"/>
              <a:chOff x="3513240" y="4480200"/>
              <a:chExt cx="252360" cy="246240"/>
            </a:xfrm>
          </p:grpSpPr>
          <p:sp>
            <p:nvSpPr>
              <p:cNvPr id="69" name=""/>
              <p:cNvSpPr/>
              <p:nvPr/>
            </p:nvSpPr>
            <p:spPr>
              <a:xfrm>
                <a:off x="3513240" y="4480200"/>
                <a:ext cx="252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Black"/>
                  </a:rPr>
                  <a:t>4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3524400" y="4488120"/>
                <a:ext cx="228600" cy="2286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1" name=""/>
            <p:cNvSpPr/>
            <p:nvPr/>
          </p:nvSpPr>
          <p:spPr>
            <a:xfrm flipV="1">
              <a:off x="3657600" y="4114440"/>
              <a:ext cx="76320" cy="38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2" name=""/>
            <p:cNvGrpSpPr/>
            <p:nvPr/>
          </p:nvGrpSpPr>
          <p:grpSpPr>
            <a:xfrm>
              <a:off x="3894120" y="4556160"/>
              <a:ext cx="252360" cy="246240"/>
              <a:chOff x="3894120" y="4556160"/>
              <a:chExt cx="252360" cy="246240"/>
            </a:xfrm>
          </p:grpSpPr>
          <p:sp>
            <p:nvSpPr>
              <p:cNvPr id="73" name=""/>
              <p:cNvSpPr/>
              <p:nvPr/>
            </p:nvSpPr>
            <p:spPr>
              <a:xfrm>
                <a:off x="3894120" y="4556160"/>
                <a:ext cx="252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Black"/>
                  </a:rPr>
                  <a:t>5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3905280" y="4564080"/>
                <a:ext cx="228600" cy="2286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5" name=""/>
            <p:cNvSpPr/>
            <p:nvPr/>
          </p:nvSpPr>
          <p:spPr>
            <a:xfrm flipV="1">
              <a:off x="4038480" y="4191120"/>
              <a:ext cx="0" cy="38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" name=""/>
            <p:cNvGrpSpPr/>
            <p:nvPr/>
          </p:nvGrpSpPr>
          <p:grpSpPr>
            <a:xfrm>
              <a:off x="4343040" y="1371600"/>
              <a:ext cx="489240" cy="533520"/>
              <a:chOff x="4343040" y="1371600"/>
              <a:chExt cx="489240" cy="533520"/>
            </a:xfrm>
          </p:grpSpPr>
          <p:grpSp>
            <p:nvGrpSpPr>
              <p:cNvPr id="77" name=""/>
              <p:cNvGrpSpPr/>
              <p:nvPr/>
            </p:nvGrpSpPr>
            <p:grpSpPr>
              <a:xfrm>
                <a:off x="4579920" y="1371600"/>
                <a:ext cx="252360" cy="246240"/>
                <a:chOff x="4579920" y="1371600"/>
                <a:chExt cx="252360" cy="246240"/>
              </a:xfrm>
            </p:grpSpPr>
            <p:sp>
              <p:nvSpPr>
                <p:cNvPr id="78" name=""/>
                <p:cNvSpPr/>
                <p:nvPr/>
              </p:nvSpPr>
              <p:spPr>
                <a:xfrm>
                  <a:off x="4579920" y="1371600"/>
                  <a:ext cx="2523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 Black"/>
                    </a:rPr>
                    <a:t>6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>
                  <a:off x="4591080" y="1379520"/>
                  <a:ext cx="228600" cy="22860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0" name=""/>
              <p:cNvSpPr/>
              <p:nvPr/>
            </p:nvSpPr>
            <p:spPr>
              <a:xfrm flipH="1">
                <a:off x="4343040" y="1600200"/>
                <a:ext cx="30492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" name=""/>
            <p:cNvSpPr/>
            <p:nvPr/>
          </p:nvSpPr>
          <p:spPr>
            <a:xfrm flipH="1">
              <a:off x="4723920" y="1981440"/>
              <a:ext cx="381240" cy="152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685800" y="30492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LS 2-13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DE PANEL SWITC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LS 2-14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IRCUIT BREAK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ls2-14b" descr=""/>
          <p:cNvPicPr/>
          <p:nvPr/>
        </p:nvPicPr>
        <p:blipFill>
          <a:blip r:embed="rId1"/>
          <a:stretch/>
        </p:blipFill>
        <p:spPr>
          <a:xfrm>
            <a:off x="1386000" y="1828800"/>
            <a:ext cx="6370560" cy="31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LS 2-15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ATER/DEFROSTER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502080" y="5181480"/>
            <a:ext cx="2138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.  AIR CONT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.  FAN CONT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3.  HEAT CONT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4.  DEFROST CONT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ls2-15" descr=""/>
          <p:cNvPicPr/>
          <p:nvPr/>
        </p:nvPicPr>
        <p:blipFill>
          <a:blip r:embed="rId1"/>
          <a:srcRect l="1349" t="25883" r="6215" b="20520"/>
          <a:stretch/>
        </p:blipFill>
        <p:spPr>
          <a:xfrm>
            <a:off x="2400480" y="1523880"/>
            <a:ext cx="434340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LS 2-16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PERATOR’S SE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550960" y="5181480"/>
            <a:ext cx="40420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.  SEAT BELT/SHOULDER HAR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.  SEAT CONNECTOR STRA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3.  HEIGHT ADJUSTMENT CONT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4.  FORWARD/BACKWARD ADJUSTMENT CONT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.  RIDE ADJUSTMENT CONT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ls2-16" descr=""/>
          <p:cNvPicPr/>
          <p:nvPr/>
        </p:nvPicPr>
        <p:blipFill>
          <a:blip r:embed="rId1"/>
          <a:srcRect l="15482" t="15790" r="25640" b="25928"/>
          <a:stretch/>
        </p:blipFill>
        <p:spPr>
          <a:xfrm>
            <a:off x="3467160" y="1371600"/>
            <a:ext cx="220968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LS 2-17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IFLE STOWAGE M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484440" y="5181480"/>
            <a:ext cx="2173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.  LOWER RIFLE MOU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.  RIFLE MOUNT HAND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3.  TOP RIFLE MOU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ls2-17" descr=""/>
          <p:cNvPicPr/>
          <p:nvPr/>
        </p:nvPicPr>
        <p:blipFill>
          <a:blip r:embed="rId1"/>
          <a:srcRect l="1059" t="22059" r="4787" b="19267"/>
          <a:stretch/>
        </p:blipFill>
        <p:spPr>
          <a:xfrm>
            <a:off x="2666880" y="1600200"/>
            <a:ext cx="381024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LS 2-18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ACHINE GUN M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86120" y="5380200"/>
            <a:ext cx="33735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.  MACHINE GUN OPERATOR PLAT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.  MACHINE GUN MOU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3.  MACHINE GUN 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ls2-18" descr=""/>
          <p:cNvPicPr/>
          <p:nvPr/>
        </p:nvPicPr>
        <p:blipFill>
          <a:blip r:embed="rId1"/>
          <a:srcRect l="564" t="21185" r="2271" b="17068"/>
          <a:stretch/>
        </p:blipFill>
        <p:spPr>
          <a:xfrm>
            <a:off x="2400480" y="1447920"/>
            <a:ext cx="43434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19T17:37:59Z</dcterms:created>
  <dc:creator>John Ritter</dc:creator>
  <dc:description/>
  <dc:language>en-US</dc:language>
  <cp:lastModifiedBy>John Ritter</cp:lastModifiedBy>
  <cp:lastPrinted>1999-01-26T15:34:03Z</cp:lastPrinted>
  <dcterms:modified xsi:type="dcterms:W3CDTF">1999-01-26T15:46:20Z</dcterms:modified>
  <cp:revision>6</cp:revision>
  <dc:subject/>
  <dc:title>No Slide Title</dc:title>
</cp:coreProperties>
</file>